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24C-B9B9-4892-8A56-CBC1B659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574-97F7-4457-B4D6-26659D30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99A-7522-41A7-97E8-753E6604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072-06DB-4011-9E1C-BBC3DD89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05A-EFBD-4BC7-AEB7-6130ECE1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0D70-3499-499A-B50C-ED7BF21F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3237-4CED-4253-90E6-540B498B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C088-DCED-4766-B963-D097A83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082-AF7F-47CE-9E6B-205601AD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5680-5CDD-45AD-8D0C-06E8BC2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B6C-1985-40EA-8721-BF2C9C6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AA5-C9C9-4875-9A62-68564DC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6BF7-275E-4185-8D70-ADDA550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77C-61FF-4399-94D6-1D5F098B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950-A6E5-4FD2-B22C-16C91CC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CCB0-1852-4895-86D7-E53955D0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B76E-D255-4BB5-9E99-61059FE7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18A-9C2F-40A6-85B0-DFD8E79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886-4DAF-4617-B2C3-D01285A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37A-DC53-41B9-975D-92EE762F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C8C-5DDA-4141-A793-D61B491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F9A-D17A-470C-A0F7-ED9E3E0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467-FB92-45EB-B764-B1CAFD2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9DE-4C14-444F-B642-3D4614D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AF3-31A5-4813-8379-00545DD83F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82F-E81A-4003-8ABB-D18F6901AA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745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Has society become to tolerant of drink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84280" indent="-584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Binge drinking: young people don’t get punish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mercials on TV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ess parental contro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: celebrities are drinking, too (David Hasselhoff, Paris Hil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ess =&gt; tolerance =&gt; dr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access to alcoholic beve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out friends no one would choose to live though he had all other goods.” (Aristotle). What do you thin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uddies, dude, homies =&gt;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ot of expressions for „friend“ =&gt; important concept in a society that is influenced by consumer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can rely on frie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beings are “social animal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iends are VIPs: even Aristotle knew that some two thousand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olence at schools has increased over the last few years. Write an article for a quality paper in which you analyse the causes and effects of this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bbing: Verbal abuse/ physical ab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 viol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ber mobbing (easy, anonymo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ames/ media/ TV: early contact with viol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 many students in one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more control: Learn how to defend onesel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or should people be forced to adopt a healthy lifesty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cohol, obesity in our society, higher health care co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body can be forced (no legal ground/ constitu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: people should be offered possibilities to change their lifestyle (sports programs, Weights Watch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93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12:48Z</dcterms:created>
  <dc:creator>Susanne Müller</dc:creator>
  <dc:description/>
  <dc:language>en-US</dc:language>
  <cp:lastModifiedBy>Susanne Müller</cp:lastModifiedBy>
  <dcterms:modified xsi:type="dcterms:W3CDTF">2010-03-03T16:58:23Z</dcterms:modified>
  <cp:revision>11</cp:revision>
  <dc:subject/>
  <dc:title>Folie 1</dc:title>
</cp:coreProperties>
</file>